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9.png" ContentType="image/png"/>
  <Override PartName="/ppt/media/image28.jpeg" ContentType="image/jpe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4.jpeg" ContentType="image/jpeg"/>
  <Override PartName="/ppt/media/image15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752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52040"/>
              <a:gd name="textAreaBottom" fmla="*/ 9751680 h 9752040"/>
            </a:gdLst>
            <a:ahLst/>
            <a:rect l="textAreaLeft" t="textAreaTop" r="textAreaRight" b="textAreaBottom"/>
            <a:pathLst>
              <a:path w="21600" h="30715">
                <a:moveTo>
                  <a:pt x="5" y="0"/>
                </a:moveTo>
                <a:arcTo wR="5" hR="5" stAng="16200000" swAng="-5400000"/>
                <a:lnTo>
                  <a:pt x="0" y="30710"/>
                </a:lnTo>
                <a:arcTo wR="5" hR="5" stAng="10800000" swAng="-5400000"/>
                <a:lnTo>
                  <a:pt x="21595" y="30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752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52040"/>
              <a:gd name="textAreaBottom" fmla="*/ 9751680 h 9752040"/>
            </a:gdLst>
            <a:ahLst/>
            <a:rect l="textAreaLeft" t="textAreaTop" r="textAreaRight" b="textAreaBottom"/>
            <a:pathLst>
              <a:path w="21600" h="30715">
                <a:moveTo>
                  <a:pt x="5" y="0"/>
                </a:moveTo>
                <a:arcTo wR="5" hR="5" stAng="16200000" swAng="-5400000"/>
                <a:lnTo>
                  <a:pt x="0" y="30710"/>
                </a:lnTo>
                <a:arcTo wR="5" hR="5" stAng="10800000" swAng="-5400000"/>
                <a:lnTo>
                  <a:pt x="21595" y="30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752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52040"/>
              <a:gd name="textAreaBottom" fmla="*/ 9751680 h 9752040"/>
            </a:gdLst>
            <a:ahLst/>
            <a:rect l="textAreaLeft" t="textAreaTop" r="textAreaRight" b="textAreaBottom"/>
            <a:pathLst>
              <a:path w="21600" h="30715">
                <a:moveTo>
                  <a:pt x="5" y="0"/>
                </a:moveTo>
                <a:arcTo wR="5" hR="5" stAng="16200000" swAng="-5400000"/>
                <a:lnTo>
                  <a:pt x="0" y="30710"/>
                </a:lnTo>
                <a:arcTo wR="5" hR="5" stAng="10800000" swAng="-5400000"/>
                <a:lnTo>
                  <a:pt x="21595" y="30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620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0360" y="762120"/>
            <a:ext cx="4871880" cy="36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040" y="4647960"/>
            <a:ext cx="502452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29592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6200" y="929592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DC176-C075-493F-A314-987CF46BD494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B2216-6FB8-459A-9CC6-6DBFAB7AB1B7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E5ADD-B03A-41EB-BF8B-8BDB647855BE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19291-8A9F-4622-A6AE-99587F9D1019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FF49A-0FCE-4D26-9F9C-B7DB6594C206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27B46-E9F2-4439-A2B7-CFA370092F91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5C073-E54B-4B6F-B4F9-FE8BA4B6A323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AAE5E-94AC-4688-8C0F-E00B6EEC07CB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3884760" y="92613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009800" y="744480"/>
            <a:ext cx="48369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DE3A1-2F72-4452-A023-EF12EA4E5117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3884760" y="92613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09800" y="744480"/>
            <a:ext cx="48369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7C484-A85C-4A5F-A0D2-EC021D8CE252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B3B7B-FF61-40E7-8F16-AA79FE200344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EFBBB-43E7-463A-8205-332EDBECDCC3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20BA-95D8-4B26-A4A5-641B692E9AB0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4F674-BEC9-47B8-A59A-9D91F5428D43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90A6B-5B98-49F5-836D-753815E58392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"/>
          <p:cNvSpPr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884760" y="92613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09800" y="744480"/>
            <a:ext cx="48369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A4423-076C-432F-A1B7-4627C2989C66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3884760" y="9261360"/>
            <a:ext cx="297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009800" y="744480"/>
            <a:ext cx="48369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8DC2E-B649-45FF-967B-D5B9BAE8CD04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80B5C-5E81-4E5D-9089-F57736C610FA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1483-A3FD-45CB-8EA0-0A0AAF804D66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37486-7CE3-430E-BBC5-C9E1E4DA1040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3EDFF-D55C-431B-9188-9F5409636344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ABB1B-54CF-45D0-BD40-D945F66B1D38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A3A04-9740-46C0-AE9D-9B118990D774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7B77D-5FF5-4438-A1C3-B4A01D865D0A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292A1-8AE8-4A19-A01F-FFB6FADE582A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E06CA-8D98-4B79-8599-67F9BC564F3C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89D90-FA40-40AF-98C8-17ED18730EFE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7C0F-0D23-4303-B4F0-F1D2027CE40E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3E962-6190-4964-A303-0C6F5C1E8EE5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1009800" y="744480"/>
            <a:ext cx="48369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941C8-0A76-4ED2-8799-35E863307C01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B0B4-E1E4-48DE-A644-FEA365B82951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FA5FD-AD52-412F-B163-E9C307E655FE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9F51-50CD-4D4F-823B-6E0B608E2C2A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1671A-7631-4C0F-A3A6-D04FBE3ABE0C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1"/>
          <p:cNvSpPr/>
          <p:nvPr/>
        </p:nvSpPr>
        <p:spPr>
          <a:xfrm>
            <a:off x="990720" y="762120"/>
            <a:ext cx="48751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7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B401D-3B68-416C-BB8A-A3BA362DF750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185F-B7D2-4294-9ABA-A59D2CB3D185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1D0AD-4F41-4090-ABC5-E9CFD562C15D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CCD6-2C30-40CC-AFF9-81FF7754F314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B37D3-51B5-4A81-A84E-092D9DCE01CC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6335-BB20-457B-BCDA-578FAEE85F8C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C140-655F-4B69-831D-0F23BA85CDF7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0255F-E351-4D94-8035-92B30A5BCDC9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8B7D7-8FA4-47C6-ABA4-76318615C600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643640"/>
            <a:ext cx="5029200" cy="43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137CE-1341-498D-8535-E4C17A377FBC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265C0-3029-430A-90F3-A60A7C7B2C46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DA381-7940-43EA-89C9-4C1E8EF52AF8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F1E9F-47E9-4411-A421-2FC033DDB896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9"/>
          <p:cNvSpPr/>
          <p:nvPr/>
        </p:nvSpPr>
        <p:spPr>
          <a:xfrm>
            <a:off x="3886200" y="9296280"/>
            <a:ext cx="2967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1F61E-076D-4B64-AB7D-2717B6ACA154}" type="slidenum">
              <a:rPr b="0" lang="pt-BR" sz="1200" spc="-1" strike="noStrike">
                <a:solidFill>
                  <a:srgbClr val="000000"/>
                </a:solidFill>
                <a:latin typeface="Tahoma"/>
                <a:ea typeface="Droid Sans Fallb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294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82880"/>
            <a:ext cx="85294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760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21896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24400" y="121896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8288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8288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24400" y="378288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F0A12-AFDA-457C-B3BB-CA9580AF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5294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CB39-354A-480F-85B6-AA006BCE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294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D06DE-EAB2-4E0D-B4A5-A040008B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3A84-5975-4245-82F6-4ABED828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C8910-D430-4B02-8534-0590175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920" y="0"/>
            <a:ext cx="7788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ADDC0-DDBC-4D6D-A67B-146EBC81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079F6-0BD6-4A05-AD93-05A6DB23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52948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2760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7A6E-B8EB-4553-ABDA-D1C3967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82880"/>
            <a:ext cx="85294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0B5C-E86B-45DD-9F3C-FCFE85DF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294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82880"/>
            <a:ext cx="85294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FC3DE-9D1D-48E7-B606-BF37B2FE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2760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5B333-306F-4C85-A4EF-C0331857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440" y="121896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400" y="121896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8288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440" y="378288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24400" y="3782880"/>
            <a:ext cx="27460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87DE4-ABE4-479E-9BA6-24919D73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294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920" y="0"/>
            <a:ext cx="7788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7600" y="378288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7600" y="1218960"/>
            <a:ext cx="416232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82880"/>
            <a:ext cx="852948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42800" y="1146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88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5294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18360"/>
            <a:ext cx="1900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1836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781680" y="6321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30320" y="139680"/>
            <a:ext cx="609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E8933-03E5-4751-87BD-201D37CE58C0}" type="slidenum">
              <a:rPr b="0" lang="pt-BR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7767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221417-FDF2-4AFE-9553-AF0255ADCDAE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Redes de Computadores</a:t>
            </a:r>
            <a:br>
              <a:rPr sz="32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CABEAMENTO ESTRUTURAD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720720" y="2340000"/>
            <a:ext cx="71992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f. Dr. Kelton Co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Tahoma"/>
              </a:rPr>
              <a:t>Kelton.costa@unesp.br</a:t>
            </a:r>
            <a:br>
              <a:rPr sz="2000"/>
            </a:br>
            <a:r>
              <a:rPr b="0" lang="pt-BR" sz="2000" spc="-1" strike="noStrike">
                <a:solidFill>
                  <a:srgbClr val="808080"/>
                </a:solidFill>
                <a:latin typeface="Tahoma"/>
              </a:rPr>
              <a:t>kelton.costa@gmail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Normas e Padrõ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0360" y="1800360"/>
            <a:ext cx="8280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*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IA (Eletric Industries Associ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IA (Telecommunication Industry Associ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ANSI/EIA/TIA 568-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SB (Technicals Systems Bullet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*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ANSI/EIA/TIA 568-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Normas e Padrõ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95280" y="1619280"/>
            <a:ext cx="84596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Outras Normas utilizadas em C.E.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NSI/EIA/TIA 569-A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infraestrutur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NSI/EIA/TIA 606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identificação e administraçã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NSI/EIA/TIA 607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aterrament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SO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International Standardization for Organizat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EC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International Electrothecnical Comi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SO/IEC 11801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Generic Cabling for Customer Premis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* ABNT em 200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NBR 14565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(Procedimento básico para elaboração de projetos de cabeamento de telecomunicações para rede interna estrutura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220760" y="142920"/>
            <a:ext cx="7238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beamento Estruturado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03280" y="1620720"/>
            <a:ext cx="8280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iste de um conjunto de produtos de conectividade empregado de acordo com regras específicas de engenharia com as seguintes característic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arquitetura ab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meio de transmissão e disposição física padroniz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aderência a padrões internacion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projeto e instalação sistematiz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fácil administração e controle do sistema de cabeament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220760" y="142920"/>
            <a:ext cx="7238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beamento Estruturado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79280" y="1800360"/>
            <a:ext cx="882036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* ma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sistema que integra diversos meios de transmi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suporta múltiplas aplicações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voz, vídeo, dados, sinalização, contro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implantação modular de expansão program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conectividade máxima entre equipa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infraestrutura preparada para tecnologias emer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220760" y="142920"/>
            <a:ext cx="7238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beamento Estruturado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24000" y="2519280"/>
            <a:ext cx="8459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ssim, um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SCS (Structured Cabling System)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é uma concepção de engenharia fundamental na integração de aplicações distintas tais como voz, dados e víde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abeamento estrutura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34960"/>
            <a:ext cx="85359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ndências Tecnoló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m sistema de cabeamento estruturado deve, se possível, suportar altas taxas transmissão e deve ser implementado como uma estrela hierárqu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o crescente de fibras óp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za um conjunto de subsistemas de cabeamento para criar uma infraestrutura hierárquica capaz de se adaptar as mudanças de tecnologia e de ambiente e, ainda, facilitar a detecção e correção de falhas e manuten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rmas EIA/TIA 568B / 569B / 606A / 607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rma brasileira NBR 1456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abeamento estrutura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537920"/>
            <a:ext cx="853596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bsistemas de Cabeamento Estrutur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m projeto de cabeamento estruturado de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spcBef>
                <a:spcPts val="4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dir a área a ser coberta em subsistemas                           (ou áreas de cabeamen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pecificar os pontos de transição entre esses subsiste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tes subsistemas podem ser implementados por etapas ou como uma solução compl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947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ubsistemas de Cabeamento Estrutura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8840" y="1795320"/>
            <a:ext cx="853452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Área de Trabalho (Work Are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eamento Horizontal (Horizontal Cabling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mário de Telecomunicações (Telecommunication Roo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eamento Vertical (Vertical Cabling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la de Equipamentos (Equipament Roo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la de Entrada de Telecomunicações (Entrance Faciliti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tribuidor Geral (Intercampus Cabling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Tahoma"/>
              </a:rPr>
              <a:t>Em português, a nomenclatura da norma brasileira. Em inglês, a nomenclatura da norma internacional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Visão geral: Cabeamento estrutura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539280" y="1484280"/>
            <a:ext cx="8136360" cy="4753080"/>
            <a:chOff x="539280" y="1484280"/>
            <a:chExt cx="8136360" cy="4753080"/>
          </a:xfrm>
        </p:grpSpPr>
        <p:sp>
          <p:nvSpPr>
            <p:cNvPr id="131" name="Text Box 3"/>
            <p:cNvSpPr/>
            <p:nvPr/>
          </p:nvSpPr>
          <p:spPr>
            <a:xfrm>
              <a:off x="7462800" y="3557520"/>
              <a:ext cx="1212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ahoma"/>
                </a:rPr>
                <a:t>1. Área de Trabalh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Group 1"/>
            <p:cNvGrpSpPr/>
            <p:nvPr/>
          </p:nvGrpSpPr>
          <p:grpSpPr>
            <a:xfrm>
              <a:off x="539280" y="1484280"/>
              <a:ext cx="8071920" cy="4753080"/>
              <a:chOff x="539280" y="1484280"/>
              <a:chExt cx="8071920" cy="4753080"/>
            </a:xfrm>
          </p:grpSpPr>
          <p:pic>
            <p:nvPicPr>
              <p:cNvPr id="13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560" y="1484280"/>
                <a:ext cx="5925240" cy="475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AutoShape 4"/>
              <p:cNvSpPr/>
              <p:nvPr/>
            </p:nvSpPr>
            <p:spPr>
              <a:xfrm>
                <a:off x="6852240" y="3703680"/>
                <a:ext cx="716040" cy="126720"/>
              </a:xfrm>
              <a:prstGeom prst="leftArrow">
                <a:avLst>
                  <a:gd name="adj1" fmla="val 50000"/>
                  <a:gd name="adj2" fmla="val 142441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Oval 5"/>
              <p:cNvSpPr/>
              <p:nvPr/>
            </p:nvSpPr>
            <p:spPr>
              <a:xfrm>
                <a:off x="5550120" y="3495600"/>
                <a:ext cx="1303200" cy="56520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Text Box 6"/>
              <p:cNvSpPr/>
              <p:nvPr/>
            </p:nvSpPr>
            <p:spPr>
              <a:xfrm>
                <a:off x="1615320" y="1684080"/>
                <a:ext cx="117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3. Centro de Fio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7"/>
              <p:cNvSpPr/>
              <p:nvPr/>
            </p:nvSpPr>
            <p:spPr>
              <a:xfrm rot="12360000">
                <a:off x="2949120" y="1929960"/>
                <a:ext cx="717480" cy="125280"/>
              </a:xfrm>
              <a:prstGeom prst="leftArrow">
                <a:avLst>
                  <a:gd name="adj1" fmla="val 50000"/>
                  <a:gd name="adj2" fmla="val 142247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Oval 8"/>
              <p:cNvSpPr/>
              <p:nvPr/>
            </p:nvSpPr>
            <p:spPr>
              <a:xfrm>
                <a:off x="3465720" y="2049480"/>
                <a:ext cx="1303200" cy="56520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Text Box 9"/>
              <p:cNvSpPr/>
              <p:nvPr/>
            </p:nvSpPr>
            <p:spPr>
              <a:xfrm>
                <a:off x="6874560" y="5378760"/>
                <a:ext cx="1216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5. Sala de Equipamento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0"/>
              <p:cNvSpPr/>
              <p:nvPr/>
            </p:nvSpPr>
            <p:spPr>
              <a:xfrm>
                <a:off x="5202720" y="5442120"/>
                <a:ext cx="1692360" cy="126720"/>
              </a:xfrm>
              <a:prstGeom prst="leftArrow">
                <a:avLst>
                  <a:gd name="adj1" fmla="val 50000"/>
                  <a:gd name="adj2" fmla="val 336536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Oval 11"/>
              <p:cNvSpPr/>
              <p:nvPr/>
            </p:nvSpPr>
            <p:spPr>
              <a:xfrm>
                <a:off x="2163600" y="4751640"/>
                <a:ext cx="3061080" cy="144468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Text Box 12"/>
              <p:cNvSpPr/>
              <p:nvPr/>
            </p:nvSpPr>
            <p:spPr>
              <a:xfrm>
                <a:off x="636120" y="4332240"/>
                <a:ext cx="1028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7. Distribuido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Ger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3"/>
              <p:cNvSpPr/>
              <p:nvPr/>
            </p:nvSpPr>
            <p:spPr>
              <a:xfrm rot="13920000">
                <a:off x="736560" y="4981680"/>
                <a:ext cx="817560" cy="129960"/>
              </a:xfrm>
              <a:prstGeom prst="leftArrow">
                <a:avLst>
                  <a:gd name="adj1" fmla="val 50000"/>
                  <a:gd name="adj2" fmla="val 156631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382400" y="5189760"/>
                <a:ext cx="911160" cy="63000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Text Box 15"/>
              <p:cNvSpPr/>
              <p:nvPr/>
            </p:nvSpPr>
            <p:spPr>
              <a:xfrm>
                <a:off x="7349040" y="1860480"/>
                <a:ext cx="1262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2. Cabeamento Horizont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6"/>
              <p:cNvSpPr/>
              <p:nvPr/>
            </p:nvSpPr>
            <p:spPr>
              <a:xfrm>
                <a:off x="5940720" y="1987560"/>
                <a:ext cx="1432080" cy="125280"/>
              </a:xfrm>
              <a:prstGeom prst="leftArrow">
                <a:avLst>
                  <a:gd name="adj1" fmla="val 50000"/>
                  <a:gd name="adj2" fmla="val 284559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Oval 17"/>
              <p:cNvSpPr/>
              <p:nvPr/>
            </p:nvSpPr>
            <p:spPr>
              <a:xfrm>
                <a:off x="4026240" y="1787400"/>
                <a:ext cx="1954440" cy="56520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Text Box 18"/>
              <p:cNvSpPr/>
              <p:nvPr/>
            </p:nvSpPr>
            <p:spPr>
              <a:xfrm>
                <a:off x="539280" y="2601720"/>
                <a:ext cx="1557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4. Cabeamento Vertic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9"/>
              <p:cNvSpPr/>
              <p:nvPr/>
            </p:nvSpPr>
            <p:spPr>
              <a:xfrm rot="11160000">
                <a:off x="2301840" y="2747520"/>
                <a:ext cx="1238400" cy="123480"/>
              </a:xfrm>
              <a:prstGeom prst="leftArrow">
                <a:avLst>
                  <a:gd name="adj1" fmla="val 50000"/>
                  <a:gd name="adj2" fmla="val 24924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20"/>
              <p:cNvSpPr/>
              <p:nvPr/>
            </p:nvSpPr>
            <p:spPr>
              <a:xfrm>
                <a:off x="3465720" y="2238120"/>
                <a:ext cx="585720" cy="282744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21"/>
              <p:cNvSpPr/>
              <p:nvPr/>
            </p:nvSpPr>
            <p:spPr>
              <a:xfrm>
                <a:off x="991800" y="4876920"/>
                <a:ext cx="1692360" cy="1257120"/>
              </a:xfrm>
              <a:prstGeom prst="ellipse">
                <a:avLst/>
              </a:prstGeom>
              <a:noFill/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Text Box 22"/>
              <p:cNvSpPr/>
              <p:nvPr/>
            </p:nvSpPr>
            <p:spPr>
              <a:xfrm>
                <a:off x="599760" y="3598920"/>
                <a:ext cx="1627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Tahoma"/>
                  </a:rPr>
                  <a:t>6. Sala de Entrada de Telecomunicaçõ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AutoShape 23"/>
              <p:cNvSpPr/>
              <p:nvPr/>
            </p:nvSpPr>
            <p:spPr>
              <a:xfrm rot="16080000">
                <a:off x="1464120" y="4375440"/>
                <a:ext cx="879480" cy="131760"/>
              </a:xfrm>
              <a:prstGeom prst="leftArrow">
                <a:avLst>
                  <a:gd name="adj1" fmla="val 50000"/>
                  <a:gd name="adj2" fmla="val 168293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1: Área de Trabalh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4480" y="1326960"/>
            <a:ext cx="853596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Área de trabalh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eamento entre os dispositivos e as tomadas de pare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da tomada deve possuir, no mínimo, dois tipos de acesso: dados e vo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 existir no mínimo uma tomada para cada área de trabalho de 10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rimento máximo para cabo par trançado: 5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023840" y="4191120"/>
            <a:ext cx="7885080" cy="2509560"/>
            <a:chOff x="1023840" y="4191120"/>
            <a:chExt cx="7885080" cy="2509560"/>
          </a:xfrm>
        </p:grpSpPr>
        <p:graphicFrame>
          <p:nvGraphicFramePr>
            <p:cNvPr id="157" name="Object 4"/>
            <p:cNvGraphicFramePr/>
            <p:nvPr/>
          </p:nvGraphicFramePr>
          <p:xfrm>
            <a:off x="4876920" y="4191120"/>
            <a:ext cx="4032000" cy="250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4191120"/>
                      <a:ext cx="4032000" cy="25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9" name="Picture 5" descr=""/>
            <p:cNvPicPr/>
            <p:nvPr/>
          </p:nvPicPr>
          <p:blipFill>
            <a:blip r:embed="rId3"/>
            <a:stretch/>
          </p:blipFill>
          <p:spPr>
            <a:xfrm>
              <a:off x="1023840" y="4343400"/>
              <a:ext cx="3543480" cy="2298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O Sistema de Cabeamento Estrutura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2016000"/>
            <a:ext cx="845964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is elementos que compõem o C.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ecessidade de entendimento dos ele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- falhas na compreensão afetam o desempenho do C.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C.E. responsável por 85% dos problemas de uma re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1: Área de Trabalh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0480" y="1579680"/>
            <a:ext cx="85359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 UTP de 100 ohms com  4 pares (24 AWG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 ScTP/FTP de 100 ohms com 4 pare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enção cabo STP 120 ohms 2 pares está fora da nor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bra óp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 mais empregado atualmente é o cabo UTP CAT categorias 5E ou 6 com conector Mv8 (RJ-45 8 pinos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2328840" y="4030560"/>
            <a:ext cx="4870440" cy="2268360"/>
            <a:chOff x="2328840" y="4030560"/>
            <a:chExt cx="4870440" cy="2268360"/>
          </a:xfrm>
        </p:grpSpPr>
        <p:pic>
          <p:nvPicPr>
            <p:cNvPr id="163" name="Picture 4" descr=""/>
            <p:cNvPicPr/>
            <p:nvPr/>
          </p:nvPicPr>
          <p:blipFill>
            <a:blip r:embed="rId1"/>
            <a:stretch/>
          </p:blipFill>
          <p:spPr>
            <a:xfrm>
              <a:off x="2328840" y="4103280"/>
              <a:ext cx="852480" cy="1785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4" name="Object 5"/>
            <p:cNvGraphicFramePr/>
            <p:nvPr/>
          </p:nvGraphicFramePr>
          <p:xfrm>
            <a:off x="4386240" y="4030560"/>
            <a:ext cx="2813040" cy="1857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86240" y="4030560"/>
                      <a:ext cx="2813040" cy="18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Text Box 6"/>
            <p:cNvSpPr/>
            <p:nvPr/>
          </p:nvSpPr>
          <p:spPr>
            <a:xfrm>
              <a:off x="5224320" y="593064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Lucida Sans Unicode"/>
                </a:rPr>
                <a:t>Cabo U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2455200" y="5906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Narrow"/>
                  <a:ea typeface="Lucida Sans Unicode"/>
                </a:rPr>
                <a:t>RJ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0" y="6588000"/>
            <a:ext cx="9144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100" spc="-1" strike="noStrike">
                <a:solidFill>
                  <a:srgbClr val="000000"/>
                </a:solidFill>
                <a:latin typeface="Times New Roman"/>
              </a:rPr>
              <a:t>American Wire Gauge (sigla: AWG) ou escala americana normalizada é o nome da unidade de medida usada para padronização de fios e cabos elétrico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Área 2: Cabeamento Horizontal ou Rede Secundári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4480" y="1471320"/>
            <a:ext cx="853596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stema de distribuição horizont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tende-se do Centro de Fios onde estão instalados os blocos de distribuição e equipamentos de rede, até a área de trabal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rmalmente, cobre apenas um andar e os cabos são terminados em conector ou tomada de parede na interface com a Área 1 e em blocos (patch panel) no lado do Centro de F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-412920"/>
            <a:ext cx="7794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Cabeamento Horizontal, Rede Secundár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5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stema de distribuição horizont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 UTP de 100 ohms com  4 pares (24 AWG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 ScTP / FTP de 100 ohms com 4 p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bra óptica monomodo ou multimo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Área 2: Cabeamento Horizontal ou Rede Secundári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59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stema de distribuição horizont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gmento D: comprimento máximo de 90 m no caso de usar cabo de par trançado (distância entre o quadro de distribuição e cada tomad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523880" y="2743200"/>
          <a:ext cx="64008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64008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Rectangle 9"/>
          <p:cNvSpPr/>
          <p:nvPr/>
        </p:nvSpPr>
        <p:spPr>
          <a:xfrm>
            <a:off x="1574640" y="3276720"/>
            <a:ext cx="3276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600200" y="4952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entro de fios do an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" descr="Screen Shot 2015-03-25 at 6.42.48 PM.png"/>
          <p:cNvPicPr/>
          <p:nvPr/>
        </p:nvPicPr>
        <p:blipFill>
          <a:blip r:embed="rId3"/>
          <a:stretch/>
        </p:blipFill>
        <p:spPr>
          <a:xfrm>
            <a:off x="3348000" y="5589720"/>
            <a:ext cx="177804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Área 2: Cabeamento Horizontal ou Rede Secundári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2480" y="1398600"/>
            <a:ext cx="853596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Área 2: Sistema de Distribuição Horizont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norma permite um único ponto de transição não-cruzada entre o patch-panel do centro de fios e a tomada de comunicação na área de trabalho, chamado de ponto de consolidação (uso de cabo multi-p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3809880"/>
            <a:ext cx="6775560" cy="2355840"/>
            <a:chOff x="1143000" y="3809880"/>
            <a:chExt cx="6775560" cy="2355840"/>
          </a:xfrm>
        </p:grpSpPr>
        <p:graphicFrame>
          <p:nvGraphicFramePr>
            <p:cNvPr id="183" name="Object 4"/>
            <p:cNvGraphicFramePr/>
            <p:nvPr/>
          </p:nvGraphicFramePr>
          <p:xfrm>
            <a:off x="1143000" y="3930480"/>
            <a:ext cx="6775560" cy="22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3930480"/>
                      <a:ext cx="6775560" cy="22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Text Box 5"/>
            <p:cNvSpPr/>
            <p:nvPr/>
          </p:nvSpPr>
          <p:spPr>
            <a:xfrm>
              <a:off x="1189080" y="3862440"/>
              <a:ext cx="2620800" cy="307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ntique Olive (PCL6)"/>
                  <a:ea typeface="Lucida Sans Unicode"/>
                </a:rPr>
                <a:t>Centro de f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5504040" y="3862440"/>
              <a:ext cx="2327040" cy="30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ntique Olive (PCL6)"/>
                </a:rPr>
                <a:t>Área de trabalh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4132440" y="3809880"/>
              <a:ext cx="1234800" cy="1244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7928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2: Rede Secundária (Horizontal)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4: Rede Primária (Vertical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539640" y="19162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pos de Instal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mbutido no pi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iso elev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nale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 seguir as recomendações da Norma TIA/EIA 569-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2708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2: Rede Secundária (Horizontal)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4: Rede Primária (Vertical)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Instalação embutida no pi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560600" y="2379600"/>
            <a:ext cx="556236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2708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2: Rede Secundária (Horizontal)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4: Rede Primária (Vertical) Instalação em piso eleva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76520" y="1927080"/>
            <a:ext cx="579096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2708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2: Rede Secundária (Horizontal)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4: Rede Primária (Vertical) Instalação no for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8344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9280" y="16344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2: Rede Secundária (Horizontal)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4: Rede Primária (Vertical) Instalação em canalet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981080" y="1820880"/>
            <a:ext cx="525780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racterísticas do C.E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68360" y="1979640"/>
            <a:ext cx="813600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a topologia utilizada em redes estrela atuais, deve haver um segmento de cabo interligando cada estação de trabalho ao servidor, ou melhor, ao centro de distribuição do cabea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C.E. é  a infraestrutura necessária para a implementação de qualquer rede de computadores e é também o investimento ini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4: Rede Primária (Vertical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59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beamento vertical dentro de edifícios usado na interconexão dos anda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ecta a SET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la de Entrada de Telecomunicações)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à SEQ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la de Equipamentos)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so prioritário de cabos de fibra óptica, mas cabos de par trançado também são normatizados e limitados a 90 met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mprimento máximo do cabo da rede primária é de 3000 m se estiver usando fibra óptica, podendo haver um quadro intermediário a 500 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362320" y="3692520"/>
            <a:ext cx="5555880" cy="3049560"/>
            <a:chOff x="2362320" y="3692520"/>
            <a:chExt cx="5555880" cy="3049560"/>
          </a:xfrm>
        </p:grpSpPr>
        <p:sp>
          <p:nvSpPr>
            <p:cNvPr id="201" name="Rectangle 4"/>
            <p:cNvSpPr/>
            <p:nvPr/>
          </p:nvSpPr>
          <p:spPr>
            <a:xfrm>
              <a:off x="2362320" y="3692520"/>
              <a:ext cx="9856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2362320" y="4300560"/>
              <a:ext cx="9856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2362320" y="4911840"/>
              <a:ext cx="9856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2362320" y="5521320"/>
              <a:ext cx="9856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2362320" y="6129360"/>
              <a:ext cx="9856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3352680" y="3692520"/>
              <a:ext cx="18244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3352680" y="4300560"/>
              <a:ext cx="18244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3352680" y="4911840"/>
              <a:ext cx="18244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3352680" y="5521320"/>
              <a:ext cx="18244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3352680" y="6129360"/>
              <a:ext cx="1824480" cy="6048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2590920" y="4071960"/>
              <a:ext cx="9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2743200" y="4606920"/>
              <a:ext cx="0" cy="18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2743200" y="460692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3200400" y="590076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18"/>
            <p:cNvSpPr/>
            <p:nvPr/>
          </p:nvSpPr>
          <p:spPr>
            <a:xfrm>
              <a:off x="2971800" y="529272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Line 19"/>
            <p:cNvSpPr/>
            <p:nvPr/>
          </p:nvSpPr>
          <p:spPr>
            <a:xfrm>
              <a:off x="3200400" y="590076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3200400" y="630252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2971800" y="5292720"/>
              <a:ext cx="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2971800" y="63579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2743200" y="643572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2590920" y="4071960"/>
              <a:ext cx="0" cy="24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2590920" y="6512040"/>
              <a:ext cx="11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3734280" y="6245280"/>
              <a:ext cx="299880" cy="299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Rectangle 27"/>
            <p:cNvSpPr/>
            <p:nvPr/>
          </p:nvSpPr>
          <p:spPr>
            <a:xfrm>
              <a:off x="3581640" y="5749920"/>
              <a:ext cx="300240" cy="299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28"/>
            <p:cNvSpPr/>
            <p:nvPr/>
          </p:nvSpPr>
          <p:spPr>
            <a:xfrm>
              <a:off x="3581640" y="5140440"/>
              <a:ext cx="300240" cy="299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Rectangle 29"/>
            <p:cNvSpPr/>
            <p:nvPr/>
          </p:nvSpPr>
          <p:spPr>
            <a:xfrm>
              <a:off x="3581640" y="4454640"/>
              <a:ext cx="300240" cy="299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Rectangle 30"/>
            <p:cNvSpPr/>
            <p:nvPr/>
          </p:nvSpPr>
          <p:spPr>
            <a:xfrm>
              <a:off x="3581640" y="3921120"/>
              <a:ext cx="300240" cy="299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31"/>
            <p:cNvSpPr/>
            <p:nvPr/>
          </p:nvSpPr>
          <p:spPr>
            <a:xfrm flipH="1">
              <a:off x="4030920" y="6391440"/>
              <a:ext cx="160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Rectangle 32"/>
            <p:cNvSpPr/>
            <p:nvPr/>
          </p:nvSpPr>
          <p:spPr>
            <a:xfrm>
              <a:off x="5561640" y="6008760"/>
              <a:ext cx="2356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ntique Olive (PCL6)"/>
                </a:rPr>
                <a:t>SALA DE TELECOMUNICAÇÕES PRINCIPAL DO PRÉ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3: Armário de Telecomunicações (AT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48840"/>
            <a:ext cx="85341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 ser projetada de acordo com a Norma TIA/EIA-569-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liga os ativos aos equipamentos de ponta (área de trabalho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 existir uma sala de telecomunicações para cada 1000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 área atend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ão das sala de telecomunicaçõ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ima de 1000 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deve haver um segundo 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2949480" y="3051000"/>
          <a:ext cx="325116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9480" y="305100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2852640" y="3573360"/>
            <a:ext cx="29163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535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conexões dos equipamentos podem ser feitas em dois esquem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05360" cy="4496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3: Armário de Telecomunicaçõ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Object 1"/>
          <p:cNvGraphicFramePr/>
          <p:nvPr/>
        </p:nvGraphicFramePr>
        <p:xfrm>
          <a:off x="457200" y="2057400"/>
          <a:ext cx="52005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52005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"/>
          <p:cNvGraphicFramePr/>
          <p:nvPr/>
        </p:nvGraphicFramePr>
        <p:xfrm>
          <a:off x="5486400" y="3809880"/>
          <a:ext cx="291456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09880"/>
                    <a:ext cx="29145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3"/>
          <p:cNvSpPr/>
          <p:nvPr/>
        </p:nvSpPr>
        <p:spPr>
          <a:xfrm>
            <a:off x="1416600" y="522936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patch panel fixo 48 por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148360" y="5259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patch panel modular 12 por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3 e 5: Armário de </a:t>
            </a: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elecomunicações e Patch Pane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59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a montagem em rack padrão 19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 sobrep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28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5: Sala de Equipamentos (SEQ)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0480" y="1724040"/>
            <a:ext cx="85359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ala de Equipamentos abriga equipamentos, a transição entre o rede secundária e o de backbone de um prédio (rede primária), através de patch de distribui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s empreg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bra óptica monomodo e multimo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 UTP categorias 5E e 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o ScTP e FTP categorias 5E e 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5: Sala de Equipamen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0840" y="1616040"/>
            <a:ext cx="85341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ve ser projetada de acordo com a Norma TIA/EIA-569-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mensão mínima: 14 metros quadr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imatizada 24 horas por dia 7 dias por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centração de equipamentos servidores e comutadores da empresa (exceto os switches eventualmente instalados nos armários de telecomunicações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ão precisa ter um operador no local (gerenciamento pelo administrador remoto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9472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Área 5: Sala de Equipamentos Bloco IDC 110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5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ma alternativa ao uso de patch panels (mais utilizado para conectar pontos de voz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876920" y="2189160"/>
            <a:ext cx="2973240" cy="3881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762120" y="2112840"/>
            <a:ext cx="279072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9472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Área 6: Setor de Entrada de Telecomunicações SET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12840" y="1542600"/>
            <a:ext cx="85341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9760" indent="-329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cebe os cabos oriundos de fora do préd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-273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cal onde termina a responsabilidade da concessionária (quando o caso) e inicia a responsabilidade do administrador da re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760" indent="-329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azem parte do SE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-273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 transições dos cabos externos da concessionária de voz ou de dados (banda larga), para a rede princip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-273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nsições entre os cabos de fibra óptica externos (revestido de gel de petróleo para proteger da umidade) para os cabos de fibra óptica internos (anti-propagante a chama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‏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0"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1800" indent="-273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nsições dos equipamentos de CATV e Segurança, quando provenientes de outras construçõ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Área 7: Cabo de Interligação Exter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60" y="1638360"/>
            <a:ext cx="8534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abeamento entre edifí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bra óptica multimodo ou monomo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rimento máximo de 2000 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905120" y="3352680"/>
            <a:ext cx="5403600" cy="3117960"/>
            <a:chOff x="1905120" y="3352680"/>
            <a:chExt cx="5403600" cy="3117960"/>
          </a:xfrm>
        </p:grpSpPr>
        <p:sp>
          <p:nvSpPr>
            <p:cNvPr id="259" name="Rectangle 4"/>
            <p:cNvSpPr/>
            <p:nvPr/>
          </p:nvSpPr>
          <p:spPr>
            <a:xfrm>
              <a:off x="4521240" y="5378400"/>
              <a:ext cx="2612880" cy="83988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2166840" y="4195800"/>
              <a:ext cx="4967280" cy="83988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2498760" y="5830920"/>
              <a:ext cx="93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2" name="Picture 7" descr=""/>
            <p:cNvPicPr/>
            <p:nvPr/>
          </p:nvPicPr>
          <p:blipFill>
            <a:blip r:embed="rId1"/>
            <a:stretch/>
          </p:blipFill>
          <p:spPr>
            <a:xfrm>
              <a:off x="4173480" y="3352680"/>
              <a:ext cx="8334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8"/>
            <p:cNvSpPr/>
            <p:nvPr/>
          </p:nvSpPr>
          <p:spPr>
            <a:xfrm>
              <a:off x="1905120" y="3352680"/>
              <a:ext cx="5403600" cy="3117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2166840" y="5378400"/>
              <a:ext cx="1739880" cy="839880"/>
            </a:xfrm>
            <a:prstGeom prst="rect">
              <a:avLst/>
            </a:prstGeom>
            <a:solidFill>
              <a:srgbClr val="ffcf0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Group 10"/>
            <p:cNvGrpSpPr/>
            <p:nvPr/>
          </p:nvGrpSpPr>
          <p:grpSpPr>
            <a:xfrm>
              <a:off x="2688840" y="4448160"/>
              <a:ext cx="606600" cy="1728720"/>
              <a:chOff x="2688840" y="4448160"/>
              <a:chExt cx="606600" cy="1728720"/>
            </a:xfrm>
          </p:grpSpPr>
          <p:sp>
            <p:nvSpPr>
              <p:cNvPr id="266" name="Freeform 11"/>
              <p:cNvSpPr/>
              <p:nvPr/>
            </p:nvSpPr>
            <p:spPr>
              <a:xfrm flipH="1">
                <a:off x="2688480" y="4551480"/>
                <a:ext cx="606600" cy="185760"/>
              </a:xfrm>
              <a:custGeom>
                <a:avLst/>
                <a:gdLst/>
                <a:ahLst/>
                <a:rect l="l" t="t" r="r" b="b"/>
                <a:pathLst>
                  <a:path w="728" h="167">
                    <a:moveTo>
                      <a:pt x="0" y="99"/>
                    </a:moveTo>
                    <a:lnTo>
                      <a:pt x="415" y="167"/>
                    </a:lnTo>
                    <a:lnTo>
                      <a:pt x="728" y="49"/>
                    </a:lnTo>
                    <a:lnTo>
                      <a:pt x="346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 flipH="1">
                <a:off x="2952000" y="4660920"/>
                <a:ext cx="343080" cy="1515960"/>
              </a:xfrm>
              <a:custGeom>
                <a:avLst/>
                <a:gdLst/>
                <a:ahLst/>
                <a:rect l="l" t="t" r="r" b="b"/>
                <a:pathLst>
                  <a:path w="415" h="1334">
                    <a:moveTo>
                      <a:pt x="0" y="0"/>
                    </a:moveTo>
                    <a:lnTo>
                      <a:pt x="415" y="69"/>
                    </a:lnTo>
                    <a:lnTo>
                      <a:pt x="415" y="1334"/>
                    </a:lnTo>
                    <a:lnTo>
                      <a:pt x="327" y="1305"/>
                    </a:lnTo>
                    <a:lnTo>
                      <a:pt x="328" y="1145"/>
                    </a:lnTo>
                    <a:lnTo>
                      <a:pt x="211" y="1099"/>
                    </a:lnTo>
                    <a:lnTo>
                      <a:pt x="211" y="1242"/>
                    </a:lnTo>
                    <a:lnTo>
                      <a:pt x="145" y="1212"/>
                    </a:lnTo>
                    <a:lnTo>
                      <a:pt x="145" y="1070"/>
                    </a:lnTo>
                    <a:lnTo>
                      <a:pt x="52" y="1028"/>
                    </a:lnTo>
                    <a:lnTo>
                      <a:pt x="52" y="1172"/>
                    </a:lnTo>
                    <a:lnTo>
                      <a:pt x="0" y="11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8" name="Group 13"/>
              <p:cNvGrpSpPr/>
              <p:nvPr/>
            </p:nvGrpSpPr>
            <p:grpSpPr>
              <a:xfrm>
                <a:off x="2689200" y="4448160"/>
                <a:ext cx="591840" cy="1728720"/>
                <a:chOff x="2689200" y="4448160"/>
                <a:chExt cx="591840" cy="1728720"/>
              </a:xfrm>
            </p:grpSpPr>
            <p:sp>
              <p:nvSpPr>
                <p:cNvPr id="269" name="Freeform 14"/>
                <p:cNvSpPr/>
                <p:nvPr/>
              </p:nvSpPr>
              <p:spPr>
                <a:xfrm flipH="1">
                  <a:off x="2689200" y="4605480"/>
                  <a:ext cx="257040" cy="1571400"/>
                </a:xfrm>
                <a:custGeom>
                  <a:avLst/>
                  <a:gdLst/>
                  <a:ahLst/>
                  <a:rect l="l" t="t" r="r" b="b"/>
                  <a:pathLst>
                    <a:path w="314" h="1384">
                      <a:moveTo>
                        <a:pt x="0" y="117"/>
                      </a:moveTo>
                      <a:lnTo>
                        <a:pt x="310" y="0"/>
                      </a:lnTo>
                      <a:lnTo>
                        <a:pt x="314" y="1070"/>
                      </a:lnTo>
                      <a:lnTo>
                        <a:pt x="0" y="1384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Group 15"/>
                <p:cNvGrpSpPr/>
                <p:nvPr/>
              </p:nvGrpSpPr>
              <p:grpSpPr>
                <a:xfrm>
                  <a:off x="3022560" y="5908680"/>
                  <a:ext cx="93240" cy="162000"/>
                  <a:chOff x="3022560" y="5908680"/>
                  <a:chExt cx="93240" cy="162000"/>
                </a:xfrm>
              </p:grpSpPr>
              <p:sp>
                <p:nvSpPr>
                  <p:cNvPr id="271" name="Freeform 16"/>
                  <p:cNvSpPr/>
                  <p:nvPr/>
                </p:nvSpPr>
                <p:spPr>
                  <a:xfrm flipH="1">
                    <a:off x="3022560" y="5940360"/>
                    <a:ext cx="417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04">
                        <a:moveTo>
                          <a:pt x="0" y="0"/>
                        </a:moveTo>
                        <a:lnTo>
                          <a:pt x="0" y="79"/>
                        </a:lnTo>
                        <a:lnTo>
                          <a:pt x="54" y="104"/>
                        </a:lnTo>
                        <a:lnTo>
                          <a:pt x="54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Freeform 17"/>
                  <p:cNvSpPr/>
                  <p:nvPr/>
                </p:nvSpPr>
                <p:spPr>
                  <a:xfrm flipH="1">
                    <a:off x="3062520" y="5908680"/>
                    <a:ext cx="5328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48">
                        <a:moveTo>
                          <a:pt x="0" y="0"/>
                        </a:moveTo>
                        <a:lnTo>
                          <a:pt x="0" y="148"/>
                        </a:lnTo>
                        <a:lnTo>
                          <a:pt x="70" y="105"/>
                        </a:lnTo>
                        <a:lnTo>
                          <a:pt x="70" y="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Group 18"/>
                <p:cNvGrpSpPr/>
                <p:nvPr/>
              </p:nvGrpSpPr>
              <p:grpSpPr>
                <a:xfrm>
                  <a:off x="3154320" y="5827680"/>
                  <a:ext cx="95400" cy="165240"/>
                  <a:chOff x="3154320" y="5827680"/>
                  <a:chExt cx="95400" cy="165240"/>
                </a:xfrm>
              </p:grpSpPr>
              <p:sp>
                <p:nvSpPr>
                  <p:cNvPr id="274" name="Freeform 19"/>
                  <p:cNvSpPr/>
                  <p:nvPr/>
                </p:nvSpPr>
                <p:spPr>
                  <a:xfrm flipH="1">
                    <a:off x="3154320" y="5859360"/>
                    <a:ext cx="396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04">
                        <a:moveTo>
                          <a:pt x="0" y="0"/>
                        </a:moveTo>
                        <a:lnTo>
                          <a:pt x="0" y="80"/>
                        </a:lnTo>
                        <a:lnTo>
                          <a:pt x="54" y="104"/>
                        </a:lnTo>
                        <a:lnTo>
                          <a:pt x="54" y="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Freeform 20"/>
                  <p:cNvSpPr/>
                  <p:nvPr/>
                </p:nvSpPr>
                <p:spPr>
                  <a:xfrm flipH="1">
                    <a:off x="3197160" y="5827680"/>
                    <a:ext cx="525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50">
                        <a:moveTo>
                          <a:pt x="0" y="0"/>
                        </a:moveTo>
                        <a:lnTo>
                          <a:pt x="0" y="150"/>
                        </a:lnTo>
                        <a:lnTo>
                          <a:pt x="70" y="108"/>
                        </a:lnTo>
                        <a:lnTo>
                          <a:pt x="70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Group 21"/>
                <p:cNvGrpSpPr/>
                <p:nvPr/>
              </p:nvGrpSpPr>
              <p:grpSpPr>
                <a:xfrm>
                  <a:off x="2974680" y="4697280"/>
                  <a:ext cx="306360" cy="1195560"/>
                  <a:chOff x="2974680" y="4697280"/>
                  <a:chExt cx="306360" cy="1195560"/>
                </a:xfrm>
              </p:grpSpPr>
              <p:sp>
                <p:nvSpPr>
                  <p:cNvPr id="277" name="Freeform 22"/>
                  <p:cNvSpPr/>
                  <p:nvPr/>
                </p:nvSpPr>
                <p:spPr>
                  <a:xfrm flipH="1">
                    <a:off x="2990880" y="4700520"/>
                    <a:ext cx="279360" cy="11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9" h="1052">
                        <a:moveTo>
                          <a:pt x="0" y="0"/>
                        </a:moveTo>
                        <a:lnTo>
                          <a:pt x="339" y="56"/>
                        </a:lnTo>
                        <a:lnTo>
                          <a:pt x="339" y="1052"/>
                        </a:lnTo>
                        <a:lnTo>
                          <a:pt x="2" y="9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8" name="Group 23"/>
                  <p:cNvGrpSpPr/>
                  <p:nvPr/>
                </p:nvGrpSpPr>
                <p:grpSpPr>
                  <a:xfrm>
                    <a:off x="2974680" y="4697280"/>
                    <a:ext cx="306360" cy="1168560"/>
                    <a:chOff x="2974680" y="4697280"/>
                    <a:chExt cx="306360" cy="1168560"/>
                  </a:xfrm>
                </p:grpSpPr>
                <p:sp>
                  <p:nvSpPr>
                    <p:cNvPr id="279" name="Line 24"/>
                    <p:cNvSpPr/>
                    <p:nvPr/>
                  </p:nvSpPr>
                  <p:spPr>
                    <a:xfrm flipH="1">
                      <a:off x="2974680" y="5594400"/>
                      <a:ext cx="304920" cy="1364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5"/>
                    <p:cNvSpPr/>
                    <p:nvPr/>
                  </p:nvSpPr>
                  <p:spPr>
                    <a:xfrm flipH="1">
                      <a:off x="2976480" y="5442120"/>
                      <a:ext cx="304560" cy="11880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6"/>
                    <p:cNvSpPr/>
                    <p:nvPr/>
                  </p:nvSpPr>
                  <p:spPr>
                    <a:xfrm flipH="1">
                      <a:off x="2976120" y="5289480"/>
                      <a:ext cx="298440" cy="10476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"/>
                    <p:cNvSpPr/>
                    <p:nvPr/>
                  </p:nvSpPr>
                  <p:spPr>
                    <a:xfrm flipH="1">
                      <a:off x="2977560" y="5129280"/>
                      <a:ext cx="298440" cy="950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8"/>
                    <p:cNvSpPr/>
                    <p:nvPr/>
                  </p:nvSpPr>
                  <p:spPr>
                    <a:xfrm flipH="1">
                      <a:off x="2979360" y="4973760"/>
                      <a:ext cx="291960" cy="7776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9"/>
                    <p:cNvSpPr/>
                    <p:nvPr/>
                  </p:nvSpPr>
                  <p:spPr>
                    <a:xfrm flipH="1">
                      <a:off x="2979360" y="4832280"/>
                      <a:ext cx="299880" cy="6516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Line 30"/>
                    <p:cNvSpPr/>
                    <p:nvPr/>
                  </p:nvSpPr>
                  <p:spPr>
                    <a:xfrm>
                      <a:off x="3209040" y="4697280"/>
                      <a:ext cx="0" cy="10861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Line 31"/>
                    <p:cNvSpPr/>
                    <p:nvPr/>
                  </p:nvSpPr>
                  <p:spPr>
                    <a:xfrm>
                      <a:off x="3141720" y="4716360"/>
                      <a:ext cx="0" cy="111312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32"/>
                    <p:cNvSpPr/>
                    <p:nvPr/>
                  </p:nvSpPr>
                  <p:spPr>
                    <a:xfrm>
                      <a:off x="3069360" y="4732200"/>
                      <a:ext cx="0" cy="1133640"/>
                    </a:xfrm>
                    <a:prstGeom prst="line">
                      <a:avLst/>
                    </a:prstGeom>
                    <a:ln w="1260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8" name="Group 33"/>
                <p:cNvGrpSpPr/>
                <p:nvPr/>
              </p:nvGrpSpPr>
              <p:grpSpPr>
                <a:xfrm>
                  <a:off x="2805120" y="4448160"/>
                  <a:ext cx="357120" cy="236520"/>
                  <a:chOff x="2805120" y="4448160"/>
                  <a:chExt cx="357120" cy="236520"/>
                </a:xfrm>
              </p:grpSpPr>
              <p:grpSp>
                <p:nvGrpSpPr>
                  <p:cNvPr id="289" name="Group 34"/>
                  <p:cNvGrpSpPr/>
                  <p:nvPr/>
                </p:nvGrpSpPr>
                <p:grpSpPr>
                  <a:xfrm>
                    <a:off x="2805120" y="4448160"/>
                    <a:ext cx="357120" cy="236520"/>
                    <a:chOff x="2805120" y="4448160"/>
                    <a:chExt cx="357120" cy="236520"/>
                  </a:xfrm>
                </p:grpSpPr>
                <p:sp>
                  <p:nvSpPr>
                    <p:cNvPr id="290" name="Freeform 35"/>
                    <p:cNvSpPr/>
                    <p:nvPr/>
                  </p:nvSpPr>
                  <p:spPr>
                    <a:xfrm flipH="1">
                      <a:off x="2805120" y="4448160"/>
                      <a:ext cx="35712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5" h="85">
                          <a:moveTo>
                            <a:pt x="0" y="55"/>
                          </a:moveTo>
                          <a:lnTo>
                            <a:pt x="253" y="85"/>
                          </a:lnTo>
                          <a:lnTo>
                            <a:pt x="435" y="28"/>
                          </a:lnTo>
                          <a:lnTo>
                            <a:pt x="18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Freeform 36"/>
                    <p:cNvSpPr/>
                    <p:nvPr/>
                  </p:nvSpPr>
                  <p:spPr>
                    <a:xfrm flipH="1">
                      <a:off x="2807640" y="4479840"/>
                      <a:ext cx="14436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186">
                          <a:moveTo>
                            <a:pt x="0" y="57"/>
                          </a:moveTo>
                          <a:lnTo>
                            <a:pt x="180" y="0"/>
                          </a:lnTo>
                          <a:lnTo>
                            <a:pt x="180" y="118"/>
                          </a:lnTo>
                          <a:lnTo>
                            <a:pt x="0" y="186"/>
                          </a:lnTo>
                          <a:lnTo>
                            <a:pt x="0" y="57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Freeform 37"/>
                    <p:cNvSpPr/>
                    <p:nvPr/>
                  </p:nvSpPr>
                  <p:spPr>
                    <a:xfrm flipH="1">
                      <a:off x="2955240" y="4510080"/>
                      <a:ext cx="20628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159">
                          <a:moveTo>
                            <a:pt x="252" y="30"/>
                          </a:moveTo>
                          <a:lnTo>
                            <a:pt x="252" y="159"/>
                          </a:lnTo>
                          <a:lnTo>
                            <a:pt x="0" y="123"/>
                          </a:lnTo>
                          <a:lnTo>
                            <a:pt x="0" y="0"/>
                          </a:lnTo>
                          <a:lnTo>
                            <a:pt x="252" y="3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3" name="Freeform 38"/>
                  <p:cNvSpPr/>
                  <p:nvPr/>
                </p:nvSpPr>
                <p:spPr>
                  <a:xfrm flipH="1">
                    <a:off x="3021120" y="4540320"/>
                    <a:ext cx="1173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38">
                        <a:moveTo>
                          <a:pt x="1" y="0"/>
                        </a:moveTo>
                        <a:lnTo>
                          <a:pt x="145" y="15"/>
                        </a:lnTo>
                        <a:lnTo>
                          <a:pt x="145" y="38"/>
                        </a:lnTo>
                        <a:lnTo>
                          <a:pt x="0" y="2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4" name="Group 39"/>
            <p:cNvGrpSpPr/>
            <p:nvPr/>
          </p:nvGrpSpPr>
          <p:grpSpPr>
            <a:xfrm>
              <a:off x="3322800" y="4448160"/>
              <a:ext cx="2522160" cy="1428840"/>
              <a:chOff x="3322800" y="4448160"/>
              <a:chExt cx="2522160" cy="1428840"/>
            </a:xfrm>
          </p:grpSpPr>
          <p:grpSp>
            <p:nvGrpSpPr>
              <p:cNvPr id="295" name="Group 40"/>
              <p:cNvGrpSpPr/>
              <p:nvPr/>
            </p:nvGrpSpPr>
            <p:grpSpPr>
              <a:xfrm>
                <a:off x="3322800" y="4448160"/>
                <a:ext cx="865080" cy="1338480"/>
                <a:chOff x="3322800" y="4448160"/>
                <a:chExt cx="865080" cy="1338480"/>
              </a:xfrm>
            </p:grpSpPr>
            <p:sp>
              <p:nvSpPr>
                <p:cNvPr id="296" name="Line 41"/>
                <p:cNvSpPr/>
                <p:nvPr/>
              </p:nvSpPr>
              <p:spPr>
                <a:xfrm>
                  <a:off x="3322800" y="5785200"/>
                  <a:ext cx="342720" cy="0"/>
                </a:xfrm>
                <a:prstGeom prst="line">
                  <a:avLst/>
                </a:prstGeom>
                <a:ln w="190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42"/>
                <p:cNvSpPr/>
                <p:nvPr/>
              </p:nvSpPr>
              <p:spPr>
                <a:xfrm flipV="1">
                  <a:off x="3670200" y="4448160"/>
                  <a:ext cx="517680" cy="1338480"/>
                </a:xfrm>
                <a:prstGeom prst="line">
                  <a:avLst/>
                </a:prstGeom>
                <a:ln w="190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Line 43"/>
              <p:cNvSpPr/>
              <p:nvPr/>
            </p:nvSpPr>
            <p:spPr>
              <a:xfrm>
                <a:off x="4804560" y="4615920"/>
                <a:ext cx="257040" cy="125460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44"/>
              <p:cNvSpPr/>
              <p:nvPr/>
            </p:nvSpPr>
            <p:spPr>
              <a:xfrm>
                <a:off x="5065200" y="5877000"/>
                <a:ext cx="779760" cy="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0" name="Line 45"/>
            <p:cNvSpPr/>
            <p:nvPr/>
          </p:nvSpPr>
          <p:spPr>
            <a:xfrm>
              <a:off x="3300480" y="5969160"/>
              <a:ext cx="261144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46"/>
            <p:cNvGrpSpPr/>
            <p:nvPr/>
          </p:nvGrpSpPr>
          <p:grpSpPr>
            <a:xfrm>
              <a:off x="5742000" y="4954680"/>
              <a:ext cx="1171440" cy="1272960"/>
              <a:chOff x="5742000" y="4954680"/>
              <a:chExt cx="1171440" cy="1272960"/>
            </a:xfrm>
          </p:grpSpPr>
          <p:sp>
            <p:nvSpPr>
              <p:cNvPr id="302" name="Freeform 47"/>
              <p:cNvSpPr/>
              <p:nvPr/>
            </p:nvSpPr>
            <p:spPr>
              <a:xfrm>
                <a:off x="5742000" y="5043600"/>
                <a:ext cx="905040" cy="277560"/>
              </a:xfrm>
              <a:custGeom>
                <a:avLst/>
                <a:gdLst/>
                <a:ahLst/>
                <a:rect l="l" t="t" r="r" b="b"/>
                <a:pathLst>
                  <a:path w="695" h="331">
                    <a:moveTo>
                      <a:pt x="0" y="243"/>
                    </a:moveTo>
                    <a:lnTo>
                      <a:pt x="336" y="331"/>
                    </a:lnTo>
                    <a:lnTo>
                      <a:pt x="695" y="61"/>
                    </a:lnTo>
                    <a:lnTo>
                      <a:pt x="405" y="0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48"/>
              <p:cNvSpPr/>
              <p:nvPr/>
            </p:nvSpPr>
            <p:spPr>
              <a:xfrm>
                <a:off x="5742000" y="5253120"/>
                <a:ext cx="434880" cy="815760"/>
              </a:xfrm>
              <a:custGeom>
                <a:avLst/>
                <a:gdLst/>
                <a:ahLst/>
                <a:rect l="l" t="t" r="r" b="b"/>
                <a:pathLst>
                  <a:path w="336" h="957">
                    <a:moveTo>
                      <a:pt x="0" y="0"/>
                    </a:moveTo>
                    <a:lnTo>
                      <a:pt x="336" y="87"/>
                    </a:lnTo>
                    <a:lnTo>
                      <a:pt x="336" y="957"/>
                    </a:lnTo>
                    <a:lnTo>
                      <a:pt x="0" y="8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49"/>
              <p:cNvSpPr/>
              <p:nvPr/>
            </p:nvSpPr>
            <p:spPr>
              <a:xfrm>
                <a:off x="6180120" y="5095800"/>
                <a:ext cx="465120" cy="971640"/>
              </a:xfrm>
              <a:custGeom>
                <a:avLst/>
                <a:gdLst/>
                <a:ahLst/>
                <a:rect l="l" t="t" r="r" b="b"/>
                <a:pathLst>
                  <a:path w="359" h="1139">
                    <a:moveTo>
                      <a:pt x="0" y="270"/>
                    </a:moveTo>
                    <a:lnTo>
                      <a:pt x="0" y="1139"/>
                    </a:lnTo>
                    <a:lnTo>
                      <a:pt x="359" y="726"/>
                    </a:lnTo>
                    <a:lnTo>
                      <a:pt x="359" y="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50"/>
              <p:cNvSpPr/>
              <p:nvPr/>
            </p:nvSpPr>
            <p:spPr>
              <a:xfrm>
                <a:off x="5856120" y="5027760"/>
                <a:ext cx="685800" cy="207720"/>
              </a:xfrm>
              <a:custGeom>
                <a:avLst/>
                <a:gdLst/>
                <a:ahLst/>
                <a:rect l="l" t="t" r="r" b="b"/>
                <a:pathLst>
                  <a:path w="529" h="248">
                    <a:moveTo>
                      <a:pt x="0" y="186"/>
                    </a:moveTo>
                    <a:lnTo>
                      <a:pt x="241" y="248"/>
                    </a:lnTo>
                    <a:lnTo>
                      <a:pt x="529" y="41"/>
                    </a:lnTo>
                    <a:lnTo>
                      <a:pt x="316" y="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70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51"/>
              <p:cNvSpPr/>
              <p:nvPr/>
            </p:nvSpPr>
            <p:spPr>
              <a:xfrm>
                <a:off x="6168960" y="5062680"/>
                <a:ext cx="374760" cy="218880"/>
              </a:xfrm>
              <a:custGeom>
                <a:avLst/>
                <a:gdLst/>
                <a:ahLst/>
                <a:rect l="l" t="t" r="r" b="b"/>
                <a:pathLst>
                  <a:path w="289" h="260">
                    <a:moveTo>
                      <a:pt x="0" y="206"/>
                    </a:moveTo>
                    <a:lnTo>
                      <a:pt x="289" y="0"/>
                    </a:lnTo>
                    <a:lnTo>
                      <a:pt x="289" y="49"/>
                    </a:lnTo>
                    <a:lnTo>
                      <a:pt x="0" y="26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52"/>
              <p:cNvSpPr/>
              <p:nvPr/>
            </p:nvSpPr>
            <p:spPr>
              <a:xfrm>
                <a:off x="5856120" y="5186520"/>
                <a:ext cx="309600" cy="95040"/>
              </a:xfrm>
              <a:custGeom>
                <a:avLst/>
                <a:gdLst/>
                <a:ahLst/>
                <a:rect l="l" t="t" r="r" b="b"/>
                <a:pathLst>
                  <a:path w="240" h="115">
                    <a:moveTo>
                      <a:pt x="240" y="61"/>
                    </a:moveTo>
                    <a:lnTo>
                      <a:pt x="240" y="115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40" y="61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53"/>
              <p:cNvSpPr/>
              <p:nvPr/>
            </p:nvSpPr>
            <p:spPr>
              <a:xfrm>
                <a:off x="5764320" y="5280120"/>
                <a:ext cx="388800" cy="757080"/>
              </a:xfrm>
              <a:custGeom>
                <a:avLst/>
                <a:gdLst/>
                <a:ahLst/>
                <a:rect l="l" t="t" r="r" b="b"/>
                <a:pathLst>
                  <a:path w="300" h="886">
                    <a:moveTo>
                      <a:pt x="0" y="0"/>
                    </a:moveTo>
                    <a:lnTo>
                      <a:pt x="300" y="79"/>
                    </a:lnTo>
                    <a:lnTo>
                      <a:pt x="300" y="886"/>
                    </a:lnTo>
                    <a:lnTo>
                      <a:pt x="0" y="7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Freeform 54"/>
              <p:cNvSpPr/>
              <p:nvPr/>
            </p:nvSpPr>
            <p:spPr>
              <a:xfrm>
                <a:off x="5819760" y="5288040"/>
                <a:ext cx="38160" cy="668160"/>
              </a:xfrm>
              <a:custGeom>
                <a:avLst/>
                <a:gdLst/>
                <a:ahLst/>
                <a:rect l="l" t="t" r="r" b="b"/>
                <a:pathLst>
                  <a:path w="32" h="784">
                    <a:moveTo>
                      <a:pt x="1" y="0"/>
                    </a:moveTo>
                    <a:lnTo>
                      <a:pt x="0" y="772"/>
                    </a:lnTo>
                    <a:lnTo>
                      <a:pt x="31" y="784"/>
                    </a:lnTo>
                    <a:lnTo>
                      <a:pt x="32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Freeform 55"/>
              <p:cNvSpPr/>
              <p:nvPr/>
            </p:nvSpPr>
            <p:spPr>
              <a:xfrm>
                <a:off x="5925960" y="5303880"/>
                <a:ext cx="41400" cy="682560"/>
              </a:xfrm>
              <a:custGeom>
                <a:avLst/>
                <a:gdLst/>
                <a:ahLst/>
                <a:rect l="l" t="t" r="r" b="b"/>
                <a:pathLst>
                  <a:path w="34" h="801">
                    <a:moveTo>
                      <a:pt x="0" y="0"/>
                    </a:moveTo>
                    <a:lnTo>
                      <a:pt x="0" y="786"/>
                    </a:lnTo>
                    <a:lnTo>
                      <a:pt x="32" y="801"/>
                    </a:lnTo>
                    <a:lnTo>
                      <a:pt x="3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Freeform 56"/>
              <p:cNvSpPr/>
              <p:nvPr/>
            </p:nvSpPr>
            <p:spPr>
              <a:xfrm>
                <a:off x="6043680" y="5326200"/>
                <a:ext cx="41040" cy="687240"/>
              </a:xfrm>
              <a:custGeom>
                <a:avLst/>
                <a:gdLst/>
                <a:ahLst/>
                <a:rect l="l" t="t" r="r" b="b"/>
                <a:pathLst>
                  <a:path w="35" h="807">
                    <a:moveTo>
                      <a:pt x="1" y="0"/>
                    </a:moveTo>
                    <a:lnTo>
                      <a:pt x="0" y="789"/>
                    </a:lnTo>
                    <a:lnTo>
                      <a:pt x="35" y="807"/>
                    </a:lnTo>
                    <a:lnTo>
                      <a:pt x="33" y="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Freeform 57"/>
              <p:cNvSpPr/>
              <p:nvPr/>
            </p:nvSpPr>
            <p:spPr>
              <a:xfrm>
                <a:off x="6256440" y="5030640"/>
                <a:ext cx="655560" cy="136800"/>
              </a:xfrm>
              <a:custGeom>
                <a:avLst/>
                <a:gdLst/>
                <a:ahLst/>
                <a:rect l="l" t="t" r="r" b="b"/>
                <a:pathLst>
                  <a:path w="728" h="167">
                    <a:moveTo>
                      <a:pt x="0" y="99"/>
                    </a:moveTo>
                    <a:lnTo>
                      <a:pt x="415" y="167"/>
                    </a:lnTo>
                    <a:lnTo>
                      <a:pt x="728" y="49"/>
                    </a:lnTo>
                    <a:lnTo>
                      <a:pt x="346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Freeform 58"/>
              <p:cNvSpPr/>
              <p:nvPr/>
            </p:nvSpPr>
            <p:spPr>
              <a:xfrm>
                <a:off x="6256440" y="5113440"/>
                <a:ext cx="374400" cy="1114200"/>
              </a:xfrm>
              <a:custGeom>
                <a:avLst/>
                <a:gdLst/>
                <a:ahLst/>
                <a:rect l="l" t="t" r="r" b="b"/>
                <a:pathLst>
                  <a:path w="415" h="1334">
                    <a:moveTo>
                      <a:pt x="0" y="0"/>
                    </a:moveTo>
                    <a:lnTo>
                      <a:pt x="415" y="69"/>
                    </a:lnTo>
                    <a:lnTo>
                      <a:pt x="415" y="1334"/>
                    </a:lnTo>
                    <a:lnTo>
                      <a:pt x="327" y="1305"/>
                    </a:lnTo>
                    <a:lnTo>
                      <a:pt x="328" y="1145"/>
                    </a:lnTo>
                    <a:lnTo>
                      <a:pt x="211" y="1099"/>
                    </a:lnTo>
                    <a:lnTo>
                      <a:pt x="211" y="1242"/>
                    </a:lnTo>
                    <a:lnTo>
                      <a:pt x="145" y="1212"/>
                    </a:lnTo>
                    <a:lnTo>
                      <a:pt x="145" y="1070"/>
                    </a:lnTo>
                    <a:lnTo>
                      <a:pt x="52" y="1028"/>
                    </a:lnTo>
                    <a:lnTo>
                      <a:pt x="52" y="1172"/>
                    </a:lnTo>
                    <a:lnTo>
                      <a:pt x="0" y="11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Freeform 59"/>
              <p:cNvSpPr/>
              <p:nvPr/>
            </p:nvSpPr>
            <p:spPr>
              <a:xfrm>
                <a:off x="6634080" y="5072040"/>
                <a:ext cx="279360" cy="1155600"/>
              </a:xfrm>
              <a:custGeom>
                <a:avLst/>
                <a:gdLst/>
                <a:ahLst/>
                <a:rect l="l" t="t" r="r" b="b"/>
                <a:pathLst>
                  <a:path w="314" h="1384">
                    <a:moveTo>
                      <a:pt x="0" y="117"/>
                    </a:moveTo>
                    <a:lnTo>
                      <a:pt x="310" y="0"/>
                    </a:lnTo>
                    <a:lnTo>
                      <a:pt x="314" y="1070"/>
                    </a:lnTo>
                    <a:lnTo>
                      <a:pt x="0" y="1384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Freeform 60"/>
              <p:cNvSpPr/>
              <p:nvPr/>
            </p:nvSpPr>
            <p:spPr>
              <a:xfrm>
                <a:off x="6507000" y="6056280"/>
                <a:ext cx="44640" cy="824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0" y="0"/>
                    </a:moveTo>
                    <a:lnTo>
                      <a:pt x="0" y="79"/>
                    </a:lnTo>
                    <a:lnTo>
                      <a:pt x="54" y="104"/>
                    </a:lnTo>
                    <a:lnTo>
                      <a:pt x="54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Freeform 61"/>
              <p:cNvSpPr/>
              <p:nvPr/>
            </p:nvSpPr>
            <p:spPr>
              <a:xfrm>
                <a:off x="6448320" y="6032520"/>
                <a:ext cx="58680" cy="119160"/>
              </a:xfrm>
              <a:custGeom>
                <a:avLst/>
                <a:gdLst/>
                <a:ahLst/>
                <a:rect l="l" t="t" r="r" b="b"/>
                <a:pathLst>
                  <a:path w="70" h="148">
                    <a:moveTo>
                      <a:pt x="0" y="0"/>
                    </a:moveTo>
                    <a:lnTo>
                      <a:pt x="0" y="148"/>
                    </a:lnTo>
                    <a:lnTo>
                      <a:pt x="70" y="105"/>
                    </a:lnTo>
                    <a:lnTo>
                      <a:pt x="7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0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Freeform 62"/>
              <p:cNvSpPr/>
              <p:nvPr/>
            </p:nvSpPr>
            <p:spPr>
              <a:xfrm>
                <a:off x="6365880" y="5994360"/>
                <a:ext cx="44280" cy="8424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0" y="0"/>
                    </a:moveTo>
                    <a:lnTo>
                      <a:pt x="0" y="80"/>
                    </a:lnTo>
                    <a:lnTo>
                      <a:pt x="54" y="104"/>
                    </a:lnTo>
                    <a:lnTo>
                      <a:pt x="54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Freeform 63"/>
              <p:cNvSpPr/>
              <p:nvPr/>
            </p:nvSpPr>
            <p:spPr>
              <a:xfrm>
                <a:off x="6302520" y="5972040"/>
                <a:ext cx="58680" cy="120960"/>
              </a:xfrm>
              <a:custGeom>
                <a:avLst/>
                <a:gdLst/>
                <a:ahLst/>
                <a:rect l="l" t="t" r="r" b="b"/>
                <a:pathLst>
                  <a:path w="70" h="150">
                    <a:moveTo>
                      <a:pt x="0" y="0"/>
                    </a:moveTo>
                    <a:lnTo>
                      <a:pt x="0" y="150"/>
                    </a:lnTo>
                    <a:lnTo>
                      <a:pt x="70" y="108"/>
                    </a:lnTo>
                    <a:lnTo>
                      <a:pt x="7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Freeform 64"/>
              <p:cNvSpPr/>
              <p:nvPr/>
            </p:nvSpPr>
            <p:spPr>
              <a:xfrm>
                <a:off x="6281640" y="5141880"/>
                <a:ext cx="304920" cy="878040"/>
              </a:xfrm>
              <a:custGeom>
                <a:avLst/>
                <a:gdLst/>
                <a:ahLst/>
                <a:rect l="l" t="t" r="r" b="b"/>
                <a:pathLst>
                  <a:path w="339" h="1052">
                    <a:moveTo>
                      <a:pt x="0" y="0"/>
                    </a:moveTo>
                    <a:lnTo>
                      <a:pt x="339" y="56"/>
                    </a:lnTo>
                    <a:lnTo>
                      <a:pt x="339" y="1052"/>
                    </a:lnTo>
                    <a:lnTo>
                      <a:pt x="2" y="9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Line 65"/>
              <p:cNvSpPr/>
              <p:nvPr/>
            </p:nvSpPr>
            <p:spPr>
              <a:xfrm>
                <a:off x="6270480" y="5802480"/>
                <a:ext cx="331920" cy="997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Line 66"/>
              <p:cNvSpPr/>
              <p:nvPr/>
            </p:nvSpPr>
            <p:spPr>
              <a:xfrm>
                <a:off x="6269040" y="5689440"/>
                <a:ext cx="333360" cy="874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Line 67"/>
              <p:cNvSpPr/>
              <p:nvPr/>
            </p:nvSpPr>
            <p:spPr>
              <a:xfrm>
                <a:off x="6276960" y="5575320"/>
                <a:ext cx="325440" cy="7452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Line 68"/>
              <p:cNvSpPr/>
              <p:nvPr/>
            </p:nvSpPr>
            <p:spPr>
              <a:xfrm>
                <a:off x="6273720" y="5456160"/>
                <a:ext cx="324000" cy="6984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Line 69"/>
              <p:cNvSpPr/>
              <p:nvPr/>
            </p:nvSpPr>
            <p:spPr>
              <a:xfrm>
                <a:off x="6278400" y="5343480"/>
                <a:ext cx="317520" cy="5724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Line 70"/>
              <p:cNvSpPr/>
              <p:nvPr/>
            </p:nvSpPr>
            <p:spPr>
              <a:xfrm>
                <a:off x="6269040" y="5237280"/>
                <a:ext cx="326880" cy="4608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Line 71"/>
              <p:cNvSpPr/>
              <p:nvPr/>
            </p:nvSpPr>
            <p:spPr>
              <a:xfrm>
                <a:off x="6346800" y="5137200"/>
                <a:ext cx="0" cy="80316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72"/>
              <p:cNvSpPr/>
              <p:nvPr/>
            </p:nvSpPr>
            <p:spPr>
              <a:xfrm>
                <a:off x="6424560" y="5153040"/>
                <a:ext cx="0" cy="82080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Line 73"/>
              <p:cNvSpPr/>
              <p:nvPr/>
            </p:nvSpPr>
            <p:spPr>
              <a:xfrm>
                <a:off x="6505560" y="5164200"/>
                <a:ext cx="0" cy="836640"/>
              </a:xfrm>
              <a:prstGeom prst="line">
                <a:avLst/>
              </a:prstGeom>
              <a:ln w="12600">
                <a:solidFill>
                  <a:srgbClr val="ff5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74"/>
              <p:cNvSpPr/>
              <p:nvPr/>
            </p:nvSpPr>
            <p:spPr>
              <a:xfrm>
                <a:off x="6397560" y="4954680"/>
                <a:ext cx="390600" cy="66600"/>
              </a:xfrm>
              <a:custGeom>
                <a:avLst/>
                <a:gdLst/>
                <a:ahLst/>
                <a:rect l="l" t="t" r="r" b="b"/>
                <a:pathLst>
                  <a:path w="435" h="85">
                    <a:moveTo>
                      <a:pt x="0" y="55"/>
                    </a:moveTo>
                    <a:lnTo>
                      <a:pt x="253" y="85"/>
                    </a:lnTo>
                    <a:lnTo>
                      <a:pt x="435" y="28"/>
                    </a:lnTo>
                    <a:lnTo>
                      <a:pt x="189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75"/>
              <p:cNvSpPr/>
              <p:nvPr/>
            </p:nvSpPr>
            <p:spPr>
              <a:xfrm>
                <a:off x="6627960" y="4978440"/>
                <a:ext cx="158760" cy="152280"/>
              </a:xfrm>
              <a:custGeom>
                <a:avLst/>
                <a:gdLst/>
                <a:ahLst/>
                <a:rect l="l" t="t" r="r" b="b"/>
                <a:pathLst>
                  <a:path w="180" h="186">
                    <a:moveTo>
                      <a:pt x="0" y="57"/>
                    </a:moveTo>
                    <a:lnTo>
                      <a:pt x="180" y="0"/>
                    </a:lnTo>
                    <a:lnTo>
                      <a:pt x="180" y="118"/>
                    </a:lnTo>
                    <a:lnTo>
                      <a:pt x="0" y="186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76"/>
              <p:cNvSpPr/>
              <p:nvPr/>
            </p:nvSpPr>
            <p:spPr>
              <a:xfrm>
                <a:off x="6397560" y="5000760"/>
                <a:ext cx="225360" cy="128520"/>
              </a:xfrm>
              <a:custGeom>
                <a:avLst/>
                <a:gdLst/>
                <a:ahLst/>
                <a:rect l="l" t="t" r="r" b="b"/>
                <a:pathLst>
                  <a:path w="252" h="159">
                    <a:moveTo>
                      <a:pt x="252" y="30"/>
                    </a:moveTo>
                    <a:lnTo>
                      <a:pt x="252" y="159"/>
                    </a:lnTo>
                    <a:lnTo>
                      <a:pt x="0" y="123"/>
                    </a:lnTo>
                    <a:lnTo>
                      <a:pt x="0" y="0"/>
                    </a:lnTo>
                    <a:lnTo>
                      <a:pt x="252" y="30"/>
                    </a:lnTo>
                    <a:close/>
                  </a:path>
                </a:pathLst>
              </a:custGeom>
              <a:solidFill>
                <a:srgbClr val="70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77"/>
              <p:cNvSpPr/>
              <p:nvPr/>
            </p:nvSpPr>
            <p:spPr>
              <a:xfrm>
                <a:off x="6427800" y="5022720"/>
                <a:ext cx="127080" cy="27000"/>
              </a:xfrm>
              <a:custGeom>
                <a:avLst/>
                <a:gdLst/>
                <a:ahLst/>
                <a:rect l="l" t="t" r="r" b="b"/>
                <a:pathLst>
                  <a:path w="145" h="38">
                    <a:moveTo>
                      <a:pt x="1" y="0"/>
                    </a:moveTo>
                    <a:lnTo>
                      <a:pt x="145" y="15"/>
                    </a:lnTo>
                    <a:lnTo>
                      <a:pt x="145" y="38"/>
                    </a:lnTo>
                    <a:lnTo>
                      <a:pt x="0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strutura hierárquica de cabeam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222800" y="4336920"/>
            <a:ext cx="64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4222800" y="4473720"/>
            <a:ext cx="64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4222800" y="4610160"/>
            <a:ext cx="64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005360" y="5483160"/>
            <a:ext cx="4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3989520" y="553716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1014480" y="1523880"/>
            <a:ext cx="706284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racterísticas do C.E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979640"/>
            <a:ext cx="7920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ês tipos de meios de transmissão tem sido comumente usados para redes loca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. Cabo de pares tranç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. Cabo coax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3. Cabo óp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onectorização:</a:t>
            </a: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bo patch direto (1: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xistem padrões de conectorização TIA/EIA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568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568B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-1182600" y="7996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5067360" y="1447920"/>
            <a:ext cx="4000320" cy="514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2214720" y="4191120"/>
            <a:ext cx="205236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6"/>
          <p:cNvGrpSpPr/>
          <p:nvPr/>
        </p:nvGrpSpPr>
        <p:grpSpPr>
          <a:xfrm>
            <a:off x="446760" y="3200400"/>
            <a:ext cx="2599560" cy="1601640"/>
            <a:chOff x="446760" y="3200400"/>
            <a:chExt cx="2599560" cy="1601640"/>
          </a:xfrm>
        </p:grpSpPr>
        <p:pic>
          <p:nvPicPr>
            <p:cNvPr id="346" name="Picture 7" descr=""/>
            <p:cNvPicPr/>
            <p:nvPr/>
          </p:nvPicPr>
          <p:blipFill>
            <a:blip r:embed="rId3"/>
            <a:stretch/>
          </p:blipFill>
          <p:spPr>
            <a:xfrm>
              <a:off x="685800" y="3200400"/>
              <a:ext cx="23605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8"/>
            <p:cNvSpPr/>
            <p:nvPr/>
          </p:nvSpPr>
          <p:spPr>
            <a:xfrm>
              <a:off x="446760" y="4129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Text Box 9"/>
            <p:cNvSpPr/>
            <p:nvPr/>
          </p:nvSpPr>
          <p:spPr>
            <a:xfrm>
              <a:off x="827640" y="4433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Text Box 10"/>
          <p:cNvSpPr/>
          <p:nvPr/>
        </p:nvSpPr>
        <p:spPr>
          <a:xfrm>
            <a:off x="4521240" y="1854360"/>
            <a:ext cx="712800" cy="20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4508640" y="4495680"/>
            <a:ext cx="712800" cy="20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onectorização: </a:t>
            </a: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bo patch cruzado (Cros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xistem 2 maneiras de interconectar os equipamentos entre s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bo Direto (“straight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bo Cruzado (“crossed” ou “cross”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-1182600" y="79963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76320" y="3809880"/>
            <a:ext cx="4419360" cy="1608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943440" cy="51433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6"/>
          <p:cNvGrpSpPr/>
          <p:nvPr/>
        </p:nvGrpSpPr>
        <p:grpSpPr>
          <a:xfrm>
            <a:off x="2661120" y="5715000"/>
            <a:ext cx="1603080" cy="1143000"/>
            <a:chOff x="2661120" y="5715000"/>
            <a:chExt cx="1603080" cy="1143000"/>
          </a:xfrm>
        </p:grpSpPr>
        <p:pic>
          <p:nvPicPr>
            <p:cNvPr id="357" name="Picture 7" descr=""/>
            <p:cNvPicPr/>
            <p:nvPr/>
          </p:nvPicPr>
          <p:blipFill>
            <a:blip r:embed="rId3"/>
            <a:stretch/>
          </p:blipFill>
          <p:spPr>
            <a:xfrm>
              <a:off x="2809800" y="5715000"/>
              <a:ext cx="145440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8"/>
            <p:cNvSpPr/>
            <p:nvPr/>
          </p:nvSpPr>
          <p:spPr>
            <a:xfrm>
              <a:off x="2661120" y="6299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>
              <a:off x="2896200" y="6489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Text Box 10"/>
          <p:cNvSpPr/>
          <p:nvPr/>
        </p:nvSpPr>
        <p:spPr>
          <a:xfrm>
            <a:off x="4660920" y="1866960"/>
            <a:ext cx="712800" cy="20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648320" y="4508640"/>
            <a:ext cx="712800" cy="20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L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AZ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V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-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ector e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icate para RJ 4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886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onentes para UT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6" name="Group 2"/>
          <p:cNvGrpSpPr/>
          <p:nvPr/>
        </p:nvGrpSpPr>
        <p:grpSpPr>
          <a:xfrm>
            <a:off x="228600" y="1676520"/>
            <a:ext cx="8758080" cy="2868480"/>
            <a:chOff x="228600" y="1676520"/>
            <a:chExt cx="8758080" cy="2868480"/>
          </a:xfrm>
        </p:grpSpPr>
        <p:pic>
          <p:nvPicPr>
            <p:cNvPr id="367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2116080"/>
              <a:ext cx="2624040" cy="168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4"/>
            <p:cNvGrpSpPr/>
            <p:nvPr/>
          </p:nvGrpSpPr>
          <p:grpSpPr>
            <a:xfrm>
              <a:off x="228600" y="1676520"/>
              <a:ext cx="8758080" cy="434880"/>
              <a:chOff x="228600" y="1676520"/>
              <a:chExt cx="8758080" cy="434880"/>
            </a:xfrm>
          </p:grpSpPr>
          <p:grpSp>
            <p:nvGrpSpPr>
              <p:cNvPr id="369" name="Group 5"/>
              <p:cNvGrpSpPr/>
              <p:nvPr/>
            </p:nvGrpSpPr>
            <p:grpSpPr>
              <a:xfrm>
                <a:off x="228600" y="1676520"/>
                <a:ext cx="2355840" cy="434880"/>
                <a:chOff x="228600" y="1676520"/>
                <a:chExt cx="2355840" cy="434880"/>
              </a:xfrm>
            </p:grpSpPr>
            <p:sp>
              <p:nvSpPr>
                <p:cNvPr id="370" name="Rectangle 6"/>
                <p:cNvSpPr/>
                <p:nvPr/>
              </p:nvSpPr>
              <p:spPr>
                <a:xfrm>
                  <a:off x="228600" y="1676520"/>
                  <a:ext cx="2355840" cy="4348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7"/>
                <p:cNvSpPr/>
                <p:nvPr/>
              </p:nvSpPr>
              <p:spPr>
                <a:xfrm>
                  <a:off x="228600" y="1676520"/>
                  <a:ext cx="2355840" cy="4348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 Narrow"/>
                    </a:rPr>
                    <a:t>O alicat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8"/>
              <p:cNvGrpSpPr/>
              <p:nvPr/>
            </p:nvGrpSpPr>
            <p:grpSpPr>
              <a:xfrm>
                <a:off x="2589120" y="1676520"/>
                <a:ext cx="3789360" cy="434880"/>
                <a:chOff x="2589120" y="1676520"/>
                <a:chExt cx="3789360" cy="434880"/>
              </a:xfrm>
            </p:grpSpPr>
            <p:sp>
              <p:nvSpPr>
                <p:cNvPr id="373" name="Rectangle 9"/>
                <p:cNvSpPr/>
                <p:nvPr/>
              </p:nvSpPr>
              <p:spPr>
                <a:xfrm>
                  <a:off x="2589120" y="1676520"/>
                  <a:ext cx="3789360" cy="4348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0"/>
                <p:cNvSpPr/>
                <p:nvPr/>
              </p:nvSpPr>
              <p:spPr>
                <a:xfrm>
                  <a:off x="2589120" y="1676520"/>
                  <a:ext cx="3789360" cy="4348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 Narrow"/>
                    </a:rPr>
                    <a:t>Um conector</a:t>
                  </a:r>
                  <a:r>
                    <a:rPr b="1" lang="en-US" sz="2600" spc="-1" strike="noStrike">
                      <a:solidFill>
                        <a:srgbClr val="ff0000"/>
                      </a:solidFill>
                      <a:latin typeface="Arial Narrow"/>
                    </a:rPr>
                    <a:t> RJ-45</a:t>
                  </a:r>
                  <a:endParaRPr b="0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1"/>
              <p:cNvGrpSpPr/>
              <p:nvPr/>
            </p:nvGrpSpPr>
            <p:grpSpPr>
              <a:xfrm>
                <a:off x="6383160" y="1676520"/>
                <a:ext cx="2603520" cy="434880"/>
                <a:chOff x="6383160" y="1676520"/>
                <a:chExt cx="2603520" cy="434880"/>
              </a:xfrm>
            </p:grpSpPr>
            <p:sp>
              <p:nvSpPr>
                <p:cNvPr id="376" name="Rectangle 12"/>
                <p:cNvSpPr/>
                <p:nvPr/>
              </p:nvSpPr>
              <p:spPr>
                <a:xfrm>
                  <a:off x="6383160" y="1676520"/>
                  <a:ext cx="2603520" cy="4348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3"/>
                <p:cNvSpPr/>
                <p:nvPr/>
              </p:nvSpPr>
              <p:spPr>
                <a:xfrm>
                  <a:off x="6383160" y="1676520"/>
                  <a:ext cx="2603520" cy="4348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 Narrow"/>
                    </a:rPr>
                    <a:t>O cabo UT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78" name="Picture 14" descr=""/>
            <p:cNvPicPr/>
            <p:nvPr/>
          </p:nvPicPr>
          <p:blipFill>
            <a:blip r:embed="rId2"/>
            <a:stretch/>
          </p:blipFill>
          <p:spPr>
            <a:xfrm>
              <a:off x="2784600" y="2116080"/>
              <a:ext cx="2916000" cy="20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5" descr=""/>
            <p:cNvPicPr/>
            <p:nvPr/>
          </p:nvPicPr>
          <p:blipFill>
            <a:blip r:embed="rId3"/>
            <a:stretch/>
          </p:blipFill>
          <p:spPr>
            <a:xfrm>
              <a:off x="5632560" y="2116080"/>
              <a:ext cx="335412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3143160" y="662040"/>
            <a:ext cx="293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6075360" y="662040"/>
            <a:ext cx="306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33200" y="1454040"/>
            <a:ext cx="314352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 o cabo for de marca deve ter escrito nele o seguinte texto:</a:t>
            </a:r>
            <a:br>
              <a:rPr sz="1400"/>
            </a:br>
            <a:r>
              <a:rPr b="0" i="1" lang="en-US" sz="1300" spc="-1" strike="noStrike">
                <a:solidFill>
                  <a:srgbClr val="000000"/>
                </a:solidFill>
                <a:latin typeface="Arial Narrow"/>
              </a:rPr>
              <a:t>Unshielded Twisted Pair (Par entrançado não blindado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143160" y="1447920"/>
            <a:ext cx="29322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mos 4 pares de fios (8 fios) coloridos.</a:t>
            </a:r>
            <a:br>
              <a:rPr sz="1400"/>
            </a:br>
            <a:r>
              <a:rPr b="0" i="1" lang="en-US" sz="1300" spc="-1" strike="noStrike">
                <a:solidFill>
                  <a:srgbClr val="000000"/>
                </a:solidFill>
                <a:latin typeface="Arial Narrow"/>
              </a:rPr>
              <a:t>Embora numa rede Ethernet a 10Mbps só se usarem 2 pares (Laranja e Verde)</a:t>
            </a:r>
            <a:br>
              <a:rPr sz="1400"/>
            </a:b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6095880" y="1295280"/>
            <a:ext cx="3068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1 e 2: Voz e dados até 4Mb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3: dados até 16Mbps (em desuso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4: dados até 20 Mb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5: dados até os 155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143160" y="4465800"/>
            <a:ext cx="2932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Fast Ether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a 100Mbps) precisa dos 4 pa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6075360" y="5227560"/>
            <a:ext cx="3068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T 6: dados até os 200MHz (recente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AT 7: dados até os 600MHz (em estudo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511200" y="3600360"/>
            <a:ext cx="1828800" cy="1177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"/>
          <p:cNvPicPr/>
          <p:nvPr/>
        </p:nvPicPr>
        <p:blipFill>
          <a:blip r:embed="rId2"/>
          <a:stretch/>
        </p:blipFill>
        <p:spPr>
          <a:xfrm>
            <a:off x="3462480" y="3124080"/>
            <a:ext cx="2252520" cy="1067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3"/>
          <a:stretch/>
        </p:blipFill>
        <p:spPr>
          <a:xfrm>
            <a:off x="6477120" y="4419720"/>
            <a:ext cx="1752480" cy="6109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O cabo UT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52280" y="1414440"/>
            <a:ext cx="2895840" cy="2471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3200400" y="1428840"/>
            <a:ext cx="2971800" cy="2457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3"/>
          <a:stretch/>
        </p:blipFill>
        <p:spPr>
          <a:xfrm>
            <a:off x="6324480" y="1398600"/>
            <a:ext cx="2667240" cy="24876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4"/>
          <p:cNvSpPr/>
          <p:nvPr/>
        </p:nvSpPr>
        <p:spPr>
          <a:xfrm>
            <a:off x="0" y="3844800"/>
            <a:ext cx="30463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o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ascar  o cabo (2 cm) -  O alicate tem um batente que serve de medida para descascar o cabo - use-o! mas com cautela pois pode cortar um dos pares se pressionar com forç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046320" y="3844800"/>
            <a:ext cx="304668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o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r os pares trançados de modo que o par </a:t>
            </a:r>
            <a:r>
              <a:rPr b="0" lang="en-US" sz="2000" spc="-1" strike="noStrike">
                <a:solidFill>
                  <a:srgbClr val="00e4a8"/>
                </a:solidFill>
                <a:latin typeface="Tahoma"/>
              </a:rPr>
              <a:t>VER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e para o lado esquerd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e o par </a:t>
            </a:r>
            <a:r>
              <a:rPr b="0" lang="en-US" sz="2000" spc="-1" strike="noStrike">
                <a:solidFill>
                  <a:srgbClr val="804000"/>
                </a:solidFill>
                <a:latin typeface="Tahoma"/>
              </a:rPr>
              <a:t>MAR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e para o lado direito (7) e (8)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248520" y="3809880"/>
            <a:ext cx="29509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o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jeitar: par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AZU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 fica no meio mas trocado (5) e (4). E o par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LARANJ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i abraçar o par azul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6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Passo-a-passo para </a:t>
            </a: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bo Direto TIA/EIA-568B (1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" descr=""/>
          <p:cNvPicPr/>
          <p:nvPr/>
        </p:nvPicPr>
        <p:blipFill>
          <a:blip r:embed="rId1"/>
          <a:stretch/>
        </p:blipFill>
        <p:spPr>
          <a:xfrm>
            <a:off x="152280" y="1366920"/>
            <a:ext cx="2590920" cy="1985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3333600" y="137160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6172200" y="1447920"/>
            <a:ext cx="2438280" cy="21463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"/>
          <p:cNvSpPr/>
          <p:nvPr/>
        </p:nvSpPr>
        <p:spPr>
          <a:xfrm>
            <a:off x="0" y="3809880"/>
            <a:ext cx="2824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nhe os 8 fios lado a lado e corte com o alicate para ficarem cer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2824200" y="3809880"/>
            <a:ext cx="3149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que-os alinhados no interior do conector RJ-45, na posição indicada na imagem (o pino 1 está do lado esquerdo). Garanta que a parte cinza (ou azul) de proteção dos fios entra no conector até alcançar uma tr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5973840" y="3809880"/>
            <a:ext cx="2941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que se os 8 fios atingem o fim do conector (topo do conector).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lhe de lado e de perf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Passo-a-passo para </a:t>
            </a: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bo Direto TIA/EIA-568B (2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286000" cy="1706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514600" cy="1525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6248520" y="1295280"/>
            <a:ext cx="1981080" cy="1703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0" y="3124080"/>
            <a:ext cx="30463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oque o conector na ranhura especial do alicate bem chegada ao batente final... 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3046320" y="3124080"/>
            <a:ext cx="30466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.. pressionar o alicate com bastante força a fim de garantir que os pinos dourados ficam bem cravados nos respectivos fios (lá no topo) e que a proteção cinza (ou azul) do cabo fique também bem 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5943600" y="3124080"/>
            <a:ext cx="3255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ado final - 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 sequência dos fios é para cabo direto padrão TIA/EIA 568</a:t>
            </a: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B.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 Cabo direto padrão 568</a:t>
            </a:r>
            <a:r>
              <a:rPr b="0" lang="pt-BR" sz="20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e no cabo Cross a sequência dos fios é difer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Passo-a-passo para </a:t>
            </a:r>
            <a:br>
              <a:rPr sz="3200"/>
            </a:b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bo Direto TIA/EIA-568B (3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racterísticas do C.E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1836720"/>
            <a:ext cx="80996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mais utilizado é o cabo de par trançado sem blindagem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 (UTP – Unshielded Twisted Pa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os primeiros 5 anos de utilização de redes locais, o meio físico escolhido por sua viabilidade técnica e econômica foi o cabo coaxial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 RG-58 (50 ohms)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que deu origem as redes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Cheapern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Cabo óptico tem sido largamente usado para interligação entre pontos distantes, por total imunidade a ruídos eletromagnéticos e pequena atenuação no sinal transmit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Características do C.E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95280" y="2160720"/>
            <a:ext cx="82803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C.E. surgiu no início da década de 90, baseado nos cabos de pares trançados sem blindag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o Brasil a técnica começou a ser utilizada por volta de 199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Sistemas Convencionais vs. Sistemas Estruturado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539640" y="1800360"/>
            <a:ext cx="792000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.C.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ão conceituados como as redes de computadores locais, redes de telefonia, circuitos para distribuição de sinais de televisão, circuitos de segurança, de automação de process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com origens diferentes, desenvolvimento independente, geram métodos de comunicação exclusivos, originando os sistemas prioritá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Sistemas Convencionais vs. Sistemas Estrutur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60360" y="1577880"/>
            <a:ext cx="82803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tilizando Sistemas Independe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número de 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número de espaços para passagem dos ca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número de espaços para acomodação dos ele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mão de ob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usto elev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tilizando Sistemas Estrutur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raestrutura ú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ácil ger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ormat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ácil segur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Normas e Padrõ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1871640"/>
            <a:ext cx="845964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Década de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Reunião das empresas de telecomunicação e informá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Criação de um sistema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não-proprie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- Interação dos equipamentos e infraestrutura dos fabric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0:43:06Z</dcterms:created>
  <dc:creator/>
  <dc:description/>
  <dc:language>en-US</dc:language>
  <cp:lastModifiedBy>Kelton Costa</cp:lastModifiedBy>
  <dcterms:modified xsi:type="dcterms:W3CDTF">2022-10-30T12:42:47Z</dcterms:modified>
  <cp:revision>414</cp:revision>
  <dc:subject/>
  <dc:title>Administração e Projeto de Redes</dc:title>
</cp:coreProperties>
</file>